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2F65-5B2C-451B-9678-6E13036C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0744-E797-4CAA-A3ED-C3CBB73E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ECE-AF46-4895-B39F-06D4A9F6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F3B4-65AB-4C2B-A397-DFC18D94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772400" cy="187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1ED-EE06-4103-878E-C5C85CF9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EE43-AC6F-4042-88B4-645685FA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DD80-9498-4631-B86D-9EB5C1BE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41F5-D258-4B86-8FD5-9581519F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772400" cy="187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DF43-7A0B-4431-96AC-682547F7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5A5-8C51-48D7-BA12-36630031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542E-91C9-4F33-92A8-C44FFE8D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BED-2010-40AB-8567-64D67344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0407-F519-45CA-A7A2-84BB8D861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885080" y="1974960"/>
            <a:ext cx="1258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 – 9,5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85080" y="3981600"/>
            <a:ext cx="1258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W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• WM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14440" y="3327480"/>
            <a:ext cx="1573200" cy="1801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900080" y="1844640"/>
            <a:ext cx="601920" cy="682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427640" y="3327480"/>
            <a:ext cx="1573200" cy="1801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915080" y="1844640"/>
            <a:ext cx="60156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15:29:22Z</dcterms:created>
  <dc:creator>*</dc:creator>
  <dc:description/>
  <dc:language>en-US</dc:language>
  <cp:lastModifiedBy>Werner Messinger</cp:lastModifiedBy>
  <dcterms:modified xsi:type="dcterms:W3CDTF">2008-03-24T21:37:04Z</dcterms:modified>
  <cp:revision>59</cp:revision>
  <dc:subject/>
  <dc:title>VW Bank USA Logo</dc:title>
</cp:coreProperties>
</file>